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148-B1F1-4B55-9ED0-E54E5CAE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FD3-C24D-4DA2-9422-D4E3FB5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B06-3598-4C4D-A413-BEC544A1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2AD-E2C1-4AF6-92D7-C27F318C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D796F-C722-4F0C-9F6E-99B3D416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A402-9B16-4CF9-A5E1-3C486F4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9408F-389D-4AD1-882E-1A3C7C58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BB44-1C54-4BEE-9A32-6421D71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4584-6874-40B6-A6D2-FA91627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1459A-59A6-440F-A589-FFD9490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38AE7-2B23-4B8D-8ECE-B83C483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0DD-B606-433F-AE55-1A231CF6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8E90-884B-4A78-8F9D-18107CE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B4B9-8321-4378-9899-F59410C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061F5-0550-4926-9364-8754D3A5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C675A-7C24-418A-9FB0-D32635C6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52C22-3052-4423-9FB9-AC03A031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E258-F302-4174-BF27-2BC8170F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A9A9-F0B4-45ED-9B6F-568CF976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9FC0-087F-4A00-81C3-9D25064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6B1E-5F48-45E0-B337-8A2401C5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6F23-8A0C-455F-935E-1C99E2ED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827-AB80-482D-9AA7-8E3649D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5C39-D628-42C6-B46E-49B267D6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6A7B-0F3E-42D0-8665-E3061BC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6A46-B001-4CF0-A590-18F5B91A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2D24-4CA7-4493-9777-A386385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BCCB-C1D6-4544-B666-68B369C1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6BC7-82EB-41F9-94CE-3CB35456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A8D3-20E0-4C02-98D3-643B3FEC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6B13F-6EAD-420E-B16F-473A17A9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D5A36-A4F0-4C81-8922-9D05B1BF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B771C-90D1-47B6-B4DE-28DBAFF4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48D-E232-4C2A-BDFB-A2597B7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551F2-2848-4381-8514-AE2F6AE9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F6089-4351-4D47-B030-02376605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5B36D-89F0-41CD-8611-58C359C3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250DC-8F93-475E-AEDB-6DB34B0D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D9951-C888-49C4-A6C2-8AA1C4F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C3938-0FD3-47B9-97BD-2EF57C9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9034C-347D-4044-8283-C634F47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3467B-9BD3-419A-98CC-B14BE9CE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647DF-CDC0-4AF6-A8EE-89FAAF32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66E28-59CC-4193-9B5A-3C55FCA7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488-47A2-4C75-8A53-4A38563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E93C7-3195-465E-A5EC-BA96A15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78036-53A8-4D61-8ACE-4FBC26A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93549-510B-439F-92CA-F032F278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F89A1-62BF-421C-A332-277E5F62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D90AD-5825-4377-8736-ABB95C7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BE330-1995-4EB1-8E52-6BED075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35DC7-343C-455D-B352-D6B3DFF6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C2A8C-EEC8-4F1A-8DEB-795138F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13288-1D33-4809-800E-576E888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FBD27-FBFC-444E-A0DA-882D83C4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A06-21B6-47EE-ADF0-66ABE459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80916-58DF-4300-AE00-0C2FA59F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25F21-0707-4E47-BFCA-C7517181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FE1FB-348B-43F0-B6E7-08D60ABF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C5AAF-2050-4419-84EA-E913635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796BD-EFD1-4E3C-A0C8-EE2DD78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C42D9-D4F6-4C44-BE80-3A1B78E5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97732-5BE0-4E0D-A610-F4F0BC8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FFE3F-E2CE-4008-A455-1C8473D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A549E-79DC-402E-B2CD-D843D8B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94BC9-2404-4D1A-9F8D-FAE04F3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466-15CE-4A3F-AF45-5E57940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FA50E-566B-48EB-A889-7989FE0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BADA5-CF3A-48F6-8092-B48CFCB1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CCBA8-5CEC-413C-A55D-E7CEBF9D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C76-FBCD-4557-BA86-9C84B89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873-2370-45C7-94BD-6CE04EC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F46A-447B-4D7D-989F-C289D163C2AF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Łącznik prosty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Łącznik prosty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3F79-7CC6-4828-A6DA-AE37069E9A7E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Łącznik prosty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4AF6-2DF7-4EAD-94AC-9066717BC730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Łącznik prosty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Łącznik prosty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26DB-A45F-4425-9BE3-F6C838017762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AFBD-2F85-4892-A1DF-6253DBA8758B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5FC-51B7-4314-9B46-B7D1EC47A92D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ytuł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279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3413160" y="3713040"/>
            <a:ext cx="2244600" cy="276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7120" y="1535040"/>
            <a:ext cx="10008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7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2143080"/>
            <a:ext cx="4357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Parowiec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to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statek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okręt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napędzany tłokową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maszy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turbi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Pierwszy parowiec wypłynął w rejs w 1807 roku. Początkowo parowce były dość niebezpieczne, gdyż często zdarzały się eksplozje niewystarczająco wytrzymałych kotłów. Udoskonalono je w drugiej połowie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XIX wieku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i wtedy rejsy parowcami stały się regularn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214360"/>
            <a:ext cx="42130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Robert  Fulton 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inżynier amerykański, wynalazca, skonstruował pierwszy statek parow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Studiował malarstwo w Londynie  później zajął się konstruowaniem statków. Na zlecenie Napoleona zbudował w 1800 pierwszy okręt podwodny napędzany ręcznie za pomocą śruby – </a:t>
            </a:r>
            <a:r>
              <a:rPr b="0" i="1" lang="pl-PL" sz="2000" spc="-1" strike="noStrike">
                <a:solidFill>
                  <a:srgbClr val="ffffff"/>
                </a:solidFill>
                <a:latin typeface="Constantia"/>
              </a:rPr>
              <a:t>Nautilus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. W 1802 pierwszy statek parowy konstrukcji Fultona został przetestowany w Angli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Tytuł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t3.gstatic.com/images?q=tbn:ANd9GcR_-_9XYCQJ5VJkX0mYRVyvLgcq9d5iFUBjdxx47QdT5Ypu0l19"/>
          <p:cNvPicPr/>
          <p:nvPr/>
        </p:nvPicPr>
        <p:blipFill>
          <a:blip r:embed="rId2"/>
          <a:stretch/>
        </p:blipFill>
        <p:spPr>
          <a:xfrm>
            <a:off x="281160" y="353880"/>
            <a:ext cx="3419280" cy="1438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13840" y="1785960"/>
            <a:ext cx="4357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Parowóz –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lokomotyw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 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napędzana maszyną parową lub turbiną parową. Para pochodzi z kotła opalanego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ęglem i drewnem, rzadziej ropą,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a w parowozach bezogniowych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z zasobnika pa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716360" y="160020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George Stephenson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brytyjski     inżynier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tóry jako pierwszy zaprojektował 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 u="sng">
                <a:solidFill>
                  <a:srgbClr val="ffffff"/>
                </a:solidFill>
                <a:uFillTx/>
                <a:latin typeface="Constantia"/>
              </a:rPr>
              <a:t>lokomotywę parow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 1827  nazwaną Rocket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Rakieta), uważany jest za "ojca brytyjskich kolei parowych"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2" descr="http://www.parowozowniawolsztyn.pl/photos/parowozy/Ty45-379.jpg"/>
          <p:cNvPicPr/>
          <p:nvPr/>
        </p:nvPicPr>
        <p:blipFill>
          <a:blip r:embed="rId2"/>
          <a:stretch/>
        </p:blipFill>
        <p:spPr>
          <a:xfrm>
            <a:off x="536400" y="255600"/>
            <a:ext cx="2988000" cy="1585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Telegraf</a:t>
            </a:r>
            <a:r>
              <a:rPr b="0" lang="pl-PL" sz="37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urządzenie do przekazywania ,wiadomości przeważnie tekstowych, na odległość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Samuel Finley Breese Morse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- amerykański wynalazca,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mal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rzeźbi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prekursor </a:t>
            </a:r>
            <a:br>
              <a:rPr sz="3700"/>
            </a:br>
            <a:r>
              <a:rPr b="0" lang="pl-PL" sz="3700" spc="-1" strike="noStrike" u="sng">
                <a:solidFill>
                  <a:srgbClr val="ffffff"/>
                </a:solidFill>
                <a:uFillTx/>
                <a:latin typeface="Constantia"/>
              </a:rPr>
              <a:t>telegrafii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http://t0.gstatic.com/images?q=tbn:ANd9GcRJzNwBpWSr1RjFolwRV_HUu_g0LqybEteCKF_e8WVFprBkoNGD"/>
          <p:cNvPicPr/>
          <p:nvPr/>
        </p:nvPicPr>
        <p:blipFill>
          <a:blip r:embed="rId2"/>
          <a:stretch/>
        </p:blipFill>
        <p:spPr>
          <a:xfrm>
            <a:off x="463680" y="328680"/>
            <a:ext cx="2955960" cy="157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85840" y="1599840"/>
            <a:ext cx="420984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Constantia"/>
              </a:rPr>
              <a:t>Silnik spalinowy</a:t>
            </a:r>
            <a:r>
              <a:rPr b="0" lang="pl-PL" sz="2800" spc="-1" strike="noStrike">
                <a:solidFill>
                  <a:srgbClr val="ffff00"/>
                </a:solidFill>
                <a:latin typeface="Constantia"/>
              </a:rPr>
              <a:t> —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silnik wykorzystujący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prężanie i rozprężanie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czynnika termodynamicznego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gazu) 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ytworzenia momentu obrotowego lub siły. Sprężany jest gaz "zimny", a rozprężany — "gorący„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Constantia"/>
              </a:rPr>
              <a:t>Étienne Lenoir</a:t>
            </a:r>
            <a:r>
              <a:rPr b="0" lang="pl-PL" sz="32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wynalazca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francuski pochodzenia belgijskiego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W 1860 zbudował pierwszy użyteczny silnik spalinow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http://www.retrotraktor.pl/artykuly/stacjonarne/1.jpg"/>
          <p:cNvPicPr/>
          <p:nvPr/>
        </p:nvPicPr>
        <p:blipFill>
          <a:blip r:embed="rId2"/>
          <a:stretch/>
        </p:blipFill>
        <p:spPr>
          <a:xfrm>
            <a:off x="420840" y="13320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elefon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 urządzeni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tanowiące zakończenie łącza telefonicznego;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gł. części aparatu: mikrotelefon, w którym zachodzi przetwarzanie dźwięków mowy na sygnał elektryczny lub operacja odwrotna, tarcza numerowa lub klawiatura, wytwarzające impulsy wybiórcze, oraz przetwornik sygnału elektrycznego na sygnał przywołujący abonen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2071440"/>
            <a:ext cx="4038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Alexander Graham Bell -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szkocki wynalazca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telefonu i kilkudziesięciu innych wynalazków telekomunikacyjnych.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Z zawodu był logopedą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i nauczycielem muzyki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Bell był też współzałożycielem dwóch znanych czasopism Scienc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i National Geographic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2" descr="http://upload.wikimedia.org/wikipedia/commons/thumb/1/15/1896_telephone.jpg/200px-1896_telephone.jpg"/>
          <p:cNvPicPr/>
          <p:nvPr/>
        </p:nvPicPr>
        <p:blipFill>
          <a:blip r:embed="rId2"/>
          <a:stretch/>
        </p:blipFill>
        <p:spPr>
          <a:xfrm>
            <a:off x="390600" y="255600"/>
            <a:ext cx="2511360" cy="1725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24000" y="1857240"/>
            <a:ext cx="41716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Żarówka</a:t>
            </a:r>
            <a:r>
              <a:rPr b="0" lang="pl-PL" sz="2400" spc="-1" strike="noStrike">
                <a:solidFill>
                  <a:srgbClr val="ffff00"/>
                </a:solidFill>
                <a:latin typeface="Constantia"/>
              </a:rPr>
              <a:t> –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elektryczne źródło światła,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 w którym ciałem świecącym jest włókno wykona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z trudno topliwego materiału.  Drut wolframowy jest umieszczony w bańce szklanej wypełnionej mieszaniną gazów szlachetnych. Włókno osiąga temperaturę ok. 2500–3000 K na skutek przepływu prądu elektrycznego. Wynalazek powstał w połowie XIX w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homas Alva Edison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  – jeden z najbardziej znanych i twórczych wynalazców 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na świecie, przedsiębiorca.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 Dorobek założonych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i administrowanych przez niego laboratoriów to około 5000 patentów,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 których 1093 wystawionych jest na jego nazwisko</a:t>
            </a:r>
            <a:r>
              <a:rPr b="0" lang="pl-PL" sz="1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Picture 2" descr="http://t1.gstatic.com/images?q=tbn:ANd9GcTB6AplvooOwN6fq5aEAA0NiwmkGeZLsz_6Awzy9fpmZiIB1HWw"/>
          <p:cNvPicPr/>
          <p:nvPr/>
        </p:nvPicPr>
        <p:blipFill>
          <a:blip r:embed="rId2"/>
          <a:stretch/>
        </p:blipFill>
        <p:spPr>
          <a:xfrm>
            <a:off x="676440" y="255600"/>
            <a:ext cx="1798560" cy="172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Radio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–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urządzenie zajmujące się przekazywaniem informacji na odległość za pomocą fal elektromagnetycz-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nych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Guglielmo Marconi 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włoski fizyk 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i konstruktor, laureat Nagrody Nobla z dziedziny fizyki w roku 1909 za wkład w rozwój telegrafii bezprzewodowej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2" descr="http://upload.wikimedia.org/wikipedia/commons/thumb/2/25/Radio_Diora_Pionier_U2_1.jpg/260px-Radio_Diora_Pionier_U2_1.jpg"/>
          <p:cNvPicPr/>
          <p:nvPr/>
        </p:nvPicPr>
        <p:blipFill>
          <a:blip r:embed="rId2"/>
          <a:stretch/>
        </p:blipFill>
        <p:spPr>
          <a:xfrm>
            <a:off x="633240" y="208080"/>
            <a:ext cx="2872080" cy="16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214200" y="1773000"/>
            <a:ext cx="47865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Kinematograf</a:t>
            </a:r>
            <a:r>
              <a:rPr b="0" lang="pl-PL" sz="26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aparat do realizacji i ekranowej projekcj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ruchomych obrazów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łowo "kinematograf" pochodzi od greckich słów: 'kinematos 'gráphein’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konstruowali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go w roku 1895 we Francji bracia Louis i August Lumière.. Pierwsza publiczna projekcja ich filmów miała miejsce 28 grudnia 1895 roku w paryskim </a:t>
            </a:r>
            <a:r>
              <a:rPr b="0" i="1" lang="pl-PL" sz="2200" spc="-1" strike="noStrike">
                <a:solidFill>
                  <a:srgbClr val="ffffff"/>
                </a:solidFill>
                <a:latin typeface="Constantia"/>
              </a:rPr>
              <a:t>Salonie Indyjskim Grand Caf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Ludwik Lumiere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i August Lumiere </a:t>
            </a:r>
            <a:r>
              <a:rPr b="0" lang="pl-PL" sz="3100" spc="-1" strike="noStrike">
                <a:solidFill>
                  <a:srgbClr val="ffffff"/>
                </a:solidFill>
                <a:latin typeface="Constantia"/>
              </a:rPr>
              <a:t>wynalazcy kinematografu. Dwaj synowie fabrykanta artykułów fotograficznych w Lyonie.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2" descr="http://t1.gstatic.com/images?q=tbn:ANd9GcRAbH_nm-h7AX2OB1QwxPm6xmjxOVHunB2hVNn_b-W5y_kxKqe8"/>
          <p:cNvPicPr/>
          <p:nvPr/>
        </p:nvPicPr>
        <p:blipFill>
          <a:blip r:embed="rId2"/>
          <a:stretch/>
        </p:blipFill>
        <p:spPr>
          <a:xfrm>
            <a:off x="822240" y="255600"/>
            <a:ext cx="1725840" cy="1427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zena</dc:creator>
  <dc:description/>
  <dc:language>en-US</dc:language>
  <cp:lastModifiedBy>Marzena</cp:lastModifiedBy>
  <dcterms:modified xsi:type="dcterms:W3CDTF">2013-08-05T12:54:13Z</dcterms:modified>
  <cp:revision>22</cp:revision>
  <dc:subject/>
  <dc:title>Wynalazki i nobliści</dc:title>
</cp:coreProperties>
</file>